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4AD-7380-4AE5-9257-2D06171D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069-C7E3-4504-ABAF-678400E5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060CB-F2E5-4D9D-B227-79CEDCC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3F1EA-ED13-42C2-A57F-D992B17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8379-F85D-4453-BE34-E8C6A55B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F4C2-CDEF-459C-A46F-F7B0E7D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83555-6D5F-4CC4-A3E0-E3C2B2F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76E1-0C70-4B8F-AD8D-03802CB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5AF6-113A-4548-9089-DB857CE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7E835-3431-4DA7-B5FA-0A2930BA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F6718-FCDA-4CE9-AE55-814C701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A6FD0-1C6B-41DB-9240-00899DF1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1FF-0B8A-4330-A6CA-2E5F9329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36C5E-A27B-485A-813B-13300BFD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5C0A8-CAE4-4751-8ED4-EBDDA0E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2306-C464-4490-9AEA-449BB12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58B02-F1E4-44A8-B67E-FD9AFDE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C7856-0F7A-4300-A732-7EE0EEA8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5D29-0D08-4217-B332-023EAE2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D8172-FB10-4579-8CED-1D1ADFF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2848-0AA2-46D0-8002-7225128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992B-AD5F-4D94-836F-A4C339C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6815B-8190-4B66-839F-69F6A8D1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284-8B54-480D-818A-6A0D008F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983B1-22A2-4332-8EAE-11C1DA38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4128-3486-4947-B7DC-D281DD2D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9DCD9-95E8-4FFF-972B-9166700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A5567-833A-4E3C-B66D-690F5DF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04345-D1AF-476A-A1F6-BBAD096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2476-5619-4D87-ADB4-B23D6DC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2B87-774E-413C-A8FE-B98D8FE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02E68-BDC5-4709-A502-4948B4B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AF105-904E-401F-BED0-AC6BDC2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0D88-4C07-4F20-8FEF-4EB69CF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015-0467-42A1-8717-3379DFDD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D119C-68AE-41DD-93E0-FD736D5C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9AEC-DB97-4143-9BF9-BF5D256B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4F97-C506-4621-821E-2A3FAC05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16C41-0117-4AD1-B5EF-FD6B7E3E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65475-3B2B-4224-89A7-42DCADB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2D6A9-799A-42B2-918D-BD2019D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1B305-8DB8-48C3-9B65-D1429A5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ABF7-7665-44D4-A261-7ADB7E9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C0944-5B65-47BD-9177-923C5DD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9245A-9F75-47BA-B81A-5B66366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EF7-8CC3-406E-BD43-2FF52089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2B97F-1B9C-4F4A-AD05-2144E32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6B8D5-2C24-41BD-B153-3ED79E6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99B1B-DA81-481F-A40D-1ABE0EE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C704D-7EC6-418D-B37B-F8FE5800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B53F2-17D8-42E4-B5EB-699108C3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21420-FA44-411D-A4D9-181BF706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235D8-6C22-427F-9DE2-0DD1212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9DEF5-A8FC-4322-A0A3-12E02E1C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90FC4-5065-49D7-9A54-59E84E45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F412C-B9B1-452B-BF81-165C2C0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155B-92DB-4EFE-86ED-0416B35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453B3-BC56-483D-9D7F-D052212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F6774-749D-4715-9DE2-9248EF1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A2106-E97A-4CCB-AE75-D17443C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42188-D9EB-4E0D-9540-8ED36C5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163E6-F8F2-4E60-B488-5D1D981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ED83E-BD01-4BA0-93BA-F26549C9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1A67F-C2A0-4236-9338-C37FBFB5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441BE-A91D-4A4F-BC58-B76E520E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9FFB6-34D0-4772-8E83-8B64CDBA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7F74F-C500-447C-BA1C-33015B5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CD5-A66D-4BE0-A67B-D593339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D8966-F2D3-4029-A2A3-D3281306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966E3-3B9F-4195-8BAC-4AEF6E9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E8C7A-F1D8-4784-BB32-0762078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486F3-D3DE-4D02-B522-99D5EA9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C2EE9-2232-4C64-A5F1-EC4469F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6F03F-B3AE-4A38-811C-800E878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A63F8-590F-4498-BE94-D4FAD1D3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82F3C-E414-4352-B271-DE5CEAEE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3C913-3983-4F4C-84D0-170F219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375B4-C6A0-4EC9-8392-9A897743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1FD7-4E41-43EA-B22F-42759C9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0A5E1-E950-414C-A6D2-617D70C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A4E9D-5437-4882-AA62-E6B814E4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73537-FF83-4DA6-A172-96367906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18DBA-F022-4004-8353-B5FE9277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48D54-4EBE-44E1-BBC9-CFEED88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F29CF-C3D6-4128-96B3-51FB92F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CFABB-EF6C-4B12-9CBA-64BFFBC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8EE08-75B5-4E7A-8DE6-DACA234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9BCB6-DFBC-4C59-AC58-3A11B38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BB794-EE3C-41B0-BD7F-B211D6CC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8496-7AA0-4E5B-94EE-92E2D2A6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EE773-57D7-4545-91A8-2070069B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04EB5-8DE7-4D66-857F-6A3D0968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0D25C-6239-4B58-9FBF-F05D685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D5701-5B8B-48DC-8F00-1DC3ACD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35FF3-2BC3-4490-97D4-F17B2E1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6F490-7AB0-4C0A-AC09-767C27C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FA219-34D2-43DA-8A02-716E2E2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75399-9717-4F98-BE46-F264A19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566EF-FDD6-414A-AE06-93F1ED7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E056E-ABBD-4E19-A64C-22623B3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437B-A894-4050-B265-24765F3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FD1A6-3EA2-4BC1-8676-3B4290D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DFDCD-35E3-4877-B3AC-F58EABDC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752D6-0468-484A-8541-2163CB51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0F277-6534-469B-B081-E799A9C6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E359C-0E7E-41F5-BB39-E016B88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89FF0-3405-4CFF-9DF6-2D7314AB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44595-C147-4951-AD90-0D04418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29892-B2CB-4BF0-949B-59C44A4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8B9F2-10EF-400E-A8F5-A84AC48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34C55-90FF-44A6-90C6-19BF134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02A-0335-44C0-BBF3-BF72AA1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235-A230-4CFC-956F-10593104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C119F-63A6-4ED3-8420-CA7DAA8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911A6-BFC8-40F0-8893-75BBE77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C745F-9645-4C00-97D9-5AD8652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D5B87-E977-4D31-83A2-EF78B6EE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38CA7-6BBF-42F5-B2ED-54CF5CA7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CA64A-F888-4BFB-82CB-01DB5270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0B088-C738-470C-B802-3CA787C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52EBA-0917-4028-B8F0-2A6D34F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4A31B-1AEF-473A-8382-92AEE6C8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5C4F4-D10B-4737-9BAB-358EBBCA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4E4-46AE-49BA-9579-2C6D02B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F75F1-D3DF-4782-9CC4-16790281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7B932-01A3-4DFD-9C55-99EE8C8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228C1-4EA7-460E-80F8-E2F05277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13AB8-41D8-46B0-8222-B69FE9D0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5BFDE-904D-4CA5-B606-05EDE94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4E163-6878-4AF5-BF6A-00877B03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D90FA-BFBD-4295-9635-3D242A8E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ED107-A57B-410E-8514-15201D1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37FFA-0123-4E92-AC33-14A37DC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2201B-42B6-4EED-A66D-2B5807DB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531F-89D7-4D7E-824D-B9A4390F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26CA8-0CBA-482C-8049-DAB827F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D4122-5181-471A-8BF2-4175BF1A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AF259-D5A1-479C-A4FF-5D02934C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D4455-AEA1-4534-AFD8-43FF2B0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638E0-EE95-45BD-AC8B-C4376FF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5C287-5134-4735-899B-4456F41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379A2-D454-4EB6-8A42-4F6D01F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DDCE7-4AA1-41E1-BCA1-B70EC950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8DB2F-C9DB-46D4-BF4F-F1A18942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BBCC3-41F6-43C6-9B69-BA256D6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0BA-E862-4474-A60A-32DF515E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80DAF-3286-4097-9DA4-3CE40E81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79ECB-EE61-4671-8BAC-9BAB1B6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A3823-AA7C-41C0-8447-CEF69E4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3A66A-5571-4688-A38A-CD8EB1D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88747-B893-4946-B329-03695490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4209D-23CE-49C0-A401-DDBF927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41FFE-945B-4D33-9B23-6452008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A6322-EB16-4E84-B0B0-4C6B023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9F6F1-D78E-4E64-AA97-EB380921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88B02-5CC0-4F40-9931-5991209F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7662-0CF4-4BD2-ADCB-3C05ABB6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41351-71FD-4960-85EB-27C9CCE7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2900E-4A4C-4853-B7A9-E0DDCFA8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68E64-7BFB-4DAF-8009-FC67D26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CD0C3-729C-4E75-BC3C-6913C9AB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B7ECA-487A-4160-B902-CEBFA0B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4AAB5-7CAE-4D8C-8793-00A98314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8AEF6-00EE-4E56-BA36-9AA441FB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22D35E-7C53-46F3-9F9B-3FC9012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7D933-8551-4BBC-9BB7-2F11071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B1BF6-0689-4226-8E08-2148625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E40A-1E13-4E3A-A8F7-F60F3B24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93A9D-7022-4738-B311-B38BD50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EDBB2-AC16-4902-85C2-E4D99226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3798A-4B70-4088-B0A1-9CE1D5D3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A1A9-9769-40DD-A5FC-30CBDE0C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57EA-73DE-4FE9-8D64-4A17DD8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A86B-3E53-4F8D-978C-92D45B5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73F2-A54A-4C7D-B0EC-92401AB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371-911A-4CCA-9877-2B4974C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5236-227E-468B-A2CD-244E1E7F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FFFB-B411-4A20-BBB3-6398419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9099-2917-489C-BB56-07D1EC3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67E2-6B2D-4468-A605-5209F64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25B1-9282-4E10-8059-BF796F75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1A90-92C1-401F-8FEB-EC0F8482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1A38-2945-4696-98DD-6411A9B4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BC55-40AC-4BC2-A640-C50333A7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9733-9695-4B76-822E-05E951D6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E4F9-D9AD-47B0-95A4-9092475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CD1-2866-4D64-912D-CF2283A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4809-7543-46A8-9A98-11350F5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21BB-A7A3-4815-BA2C-C0B5642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D3CB-EA6B-43BF-BFE9-7345C07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07CA-B89C-4420-9118-09B1252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9A51-FFFB-49A9-ACDC-ED553C0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A245-92D9-41FA-ADBD-3952212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AF21-01AD-415A-9103-38E7469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5929-AC22-4B6F-85CF-795E354D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F56E-07D3-4B9B-B867-6A27A02A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0D5A-172F-4E8B-A99F-C238E393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EC1-221E-494A-9CEE-245B937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BA95-6479-483C-9354-C356515C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450F-60D7-4524-B155-A24EE0B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12D7-FA62-4C96-8A22-9A26ED36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36A0-226F-4B8A-A0B8-6504A3F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9E63-831D-4E48-A840-4FD10EF9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1C76-0839-44DC-B5B3-0C21642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3586-695A-41CB-BC5B-FCD3C57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B20F-5335-4506-94A7-F59BD2B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B79F-CB4B-46C2-B7E2-CAE6E72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7548B-EF3F-4B88-9164-708492CC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697-04E2-4CEE-A592-A65066B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3B79-AB42-479E-9506-3E76236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AC6F-68E7-4F73-99DE-6484234E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5799-1F3F-4DCB-9BB4-0F0B69AA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AE4E-91D8-4E0A-8987-68C7913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25B4-F531-4A56-A4FC-EE63CFD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8B05-2BE8-4049-88C4-821DCC51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FE64-BB57-49B5-8FBD-4FF1E876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4BD4-BD52-4874-9747-58D4B9D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2C39-2B85-44F6-BC27-04FAF7E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458F-3850-479F-85FB-D7759FB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A3D-3853-42DB-852A-A1DECA2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33D2F-E4CB-4297-B239-9594F56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6AFF3-107C-4238-BC80-5CD34853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7462-C29F-4516-9A9B-738D3C3E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4E0D-1429-443D-AB17-17ACB1B9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7B29-582E-45BD-99AA-0167AF4E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2D87-D7A0-462A-855A-C5EC8ED2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9F5F-A0EC-483A-88C7-E7B49F6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D4D5-77BA-44F8-B8E2-9A994880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6307-1B5B-4078-8C10-4F8B881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283C-638D-4FE2-AF02-C0D16D8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4EB-CD60-47CF-B48B-9EB4150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75D9A-C02D-4B90-B9FE-D5FF9D0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804E-DA9A-4461-AAAD-6331F58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C221-B607-412B-82C7-FBD19167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F532-EF9A-4FBF-A54F-B5DBE7A7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99169-B501-4B8F-9069-BE108F42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5979-126B-42F3-B0DA-4DE09FAF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AAD83-EDDC-439F-9F61-4500B4C2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B4E63-11A1-425E-BC5A-132521E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0F38-BD38-4F8B-B32A-0EDE8EE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4AAA5-8585-4D3F-A212-08580C4F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A10-1387-4B54-A873-F081B7A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5FFF-901D-4EEA-8ABB-2053A2E1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3ABF-BFD6-43A7-A512-09A85CA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B86D-3019-48B2-AC31-35F74A4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38CF-09A7-4950-84F6-9155A830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1B55-3A93-454F-9C89-8491AFB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00EF-6E67-48F0-893F-D4CE1969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F22A-8FA2-4FF3-8304-55D3BA42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F7B5C-F02C-4936-A79E-58AA0B3A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0D05-AF5A-48B3-911A-217A79F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758AB-7436-4A7C-B160-08557B0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9B5-D301-426C-BCCD-AE387D8B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786-37FC-4118-8E61-3D72EBC48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2DE-5AE5-4461-A7EF-25B73EDD1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918C-4E5E-432E-8307-9B1AC40BA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20A0-E639-443B-9B16-FADC0B1430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FE5D-C654-4105-AF7B-5212F892E4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6AB-DB8F-47B5-8DB2-B7BD6E715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568-9E11-4D41-9FAA-F6065D9F9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51C7-E98D-4131-8E00-E469C5E7C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9EB-179F-4E16-B3B7-2271A67FB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A0BC-6374-4217-A966-354A55826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B0E5-C367-4AA3-94A3-01B4C6ABB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33F-FDB9-4B28-820D-E41C89F80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2130-80AA-45EE-B433-BC3D716D66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CB8C-0850-4BCC-A279-3174A1708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A31-DAE4-4C5C-91F1-4CC6B4AEC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5B8-4B21-4F09-94CD-41F365690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39A1-DFC0-4A6C-B841-CDF341DC4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815-FA37-4960-9824-1CFF63DA4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85B-0C53-42EB-AECA-0F4A0A0C4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FCA-C362-431E-9D9E-B44283632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C15-909C-4E93-A6AC-B9442D705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3F6C-ABEC-410C-B9CF-1D6989E00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3512-47E5-495A-928A-4392BACEA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9AC-0F8B-47FF-80B7-B9CC14C95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C6DC-065D-4678-9D96-6915847310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B3D-4E3D-4973-839E-BFF5BA1C8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5C8-E0A8-4E27-BCE8-485BB2EB7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9DE-9E87-4C12-B622-F5B7F5443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F8CD-B51E-4425-92A8-49EA2E6CB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2B16-67E0-469C-992E-D57BE59758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2A7-6B25-4AA8-B8E3-7E0DD7F40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EF2-87C8-445E-922B-BDE6188E6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BAF-F4A6-40CF-9E09-B74292259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DD5C-5152-4A3D-A13F-67F67CAB2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6A5-1B64-4578-BC1D-1EC0CF2E1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A197-ED96-4A60-933D-226580A92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296-8A8C-46A8-8300-963E0F257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74BE-264A-483E-BFB2-288CFA30E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28A7-CB3E-4FE8-B001-158489831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52800" y="3043080"/>
            <a:ext cx="483840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28760" y="828720"/>
            <a:ext cx="8477280" cy="21715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1143000" y="123516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4019400" y="123516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7032600" y="123516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1143000" y="1641600"/>
            <a:ext cx="1928880" cy="369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4019400" y="1641600"/>
            <a:ext cx="1928880" cy="369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7032600" y="1641600"/>
            <a:ext cx="1928880" cy="369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1143000" y="205272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4019400" y="205272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0"/>
          <a:stretch/>
        </p:blipFill>
        <p:spPr>
          <a:xfrm>
            <a:off x="7032600" y="205272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11"/>
          <a:stretch/>
        </p:blipFill>
        <p:spPr>
          <a:xfrm>
            <a:off x="1143000" y="2459160"/>
            <a:ext cx="19288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42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952560"/>
            <a:ext cx="8572320" cy="5619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50960" y="57546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18960" y="1090440"/>
            <a:ext cx="8506080" cy="5267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30080" y="105084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14240" y="1539720"/>
            <a:ext cx="543240" cy="432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709560" y="22860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5"/>
          <a:stretch/>
        </p:blipFill>
        <p:spPr>
          <a:xfrm>
            <a:off x="642960" y="30830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6"/>
          <a:stretch/>
        </p:blipFill>
        <p:spPr>
          <a:xfrm>
            <a:off x="642960" y="35290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7"/>
          <a:stretch/>
        </p:blipFill>
        <p:spPr>
          <a:xfrm>
            <a:off x="642960" y="43448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8"/>
          <a:stretch/>
        </p:blipFill>
        <p:spPr>
          <a:xfrm>
            <a:off x="642960" y="472284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9"/>
          <a:stretch/>
        </p:blipFill>
        <p:spPr>
          <a:xfrm>
            <a:off x="642960" y="515160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0"/>
          <a:stretch/>
        </p:blipFill>
        <p:spPr>
          <a:xfrm>
            <a:off x="642960" y="557064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24000" y="909720"/>
            <a:ext cx="8496000" cy="5734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750960" y="12970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750960" y="17146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750960" y="21225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750960" y="2550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750960" y="335592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571680" y="1162080"/>
            <a:ext cx="8038800" cy="942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500040" y="2019240"/>
            <a:ext cx="8325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376200" y="885960"/>
            <a:ext cx="8391600" cy="56862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750960" y="8571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750960" y="2928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714240" y="4100400"/>
            <a:ext cx="543240" cy="432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642960" y="536580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357120" y="933480"/>
            <a:ext cx="8429760" cy="5638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714240" y="212256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71520" y="938160"/>
            <a:ext cx="8400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4:0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